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621-7731-43C3-9332-64B0C6CB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8BB-410A-4EAE-82BA-4080854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2F5-F342-463B-9BE9-5AC95BCC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F0A-99FE-40FA-B0C5-C81CB919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79D-2B56-4741-84EA-06FFBF9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724-EA2D-4AD1-9898-3B151A7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8B3-2497-455D-9261-405E92EE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9FB-0435-4946-B6D2-99D3B983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7CD-8E2D-4D29-9783-8E3C60B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13E-73D9-44D9-8652-8BEE2F9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4BD-8E98-48D3-889B-B51BD7B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3C8-411A-4DE6-A81D-39221D0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44F6-1C17-4025-8D20-C1F9430F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7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entinel-Controlled Repetition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entinel-Controlled Repeti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sults in a fatal logic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could crash (bo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0800" y="2876400"/>
            <a:ext cx="6240600" cy="197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4640" y="1447920"/>
            <a:ext cx="602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your application’s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4114800"/>
            <a:ext cx="1752480" cy="1632600"/>
            <a:chOff x="457200" y="4114800"/>
            <a:chExt cx="1752480" cy="1632600"/>
          </a:xfrm>
        </p:grpSpPr>
        <p:sp>
          <p:nvSpPr>
            <p:cNvPr id="72" name=""/>
            <p:cNvSpPr/>
            <p:nvPr/>
          </p:nvSpPr>
          <p:spPr>
            <a:xfrm>
              <a:off x="457200" y="54100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85800" y="4114800"/>
              <a:ext cx="1523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6120" y="304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360" y="14479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ting the grade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4038120"/>
            <a:ext cx="2133720" cy="1419480"/>
            <a:chOff x="457200" y="4038120"/>
            <a:chExt cx="2133720" cy="1419480"/>
          </a:xfrm>
        </p:grpSpPr>
        <p:sp>
          <p:nvSpPr>
            <p:cNvPr id="78" name=""/>
            <p:cNvSpPr/>
            <p:nvPr/>
          </p:nvSpPr>
          <p:spPr>
            <a:xfrm>
              <a:off x="457200" y="48769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storing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9480" y="403812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55840" y="2962440"/>
            <a:ext cx="6230880" cy="180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2200" y="1461960"/>
            <a:ext cx="36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8480" y="2057400"/>
            <a:ext cx="3276720" cy="1523880"/>
            <a:chOff x="4038480" y="2057400"/>
            <a:chExt cx="3276720" cy="1523880"/>
          </a:xfrm>
        </p:grpSpPr>
        <p:sp>
          <p:nvSpPr>
            <p:cNvPr id="84" name=""/>
            <p:cNvSpPr/>
            <p:nvPr/>
          </p:nvSpPr>
          <p:spPr>
            <a:xfrm>
              <a:off x="4267080" y="2057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repeats until the sentinel valu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038480" y="2666880"/>
              <a:ext cx="2438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0800" y="3119400"/>
            <a:ext cx="6240600" cy="14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5440" y="1447920"/>
            <a:ext cx="68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each grade to the total and incrementing the cou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2438280"/>
            <a:ext cx="2362320" cy="1371600"/>
            <a:chOff x="457200" y="2438280"/>
            <a:chExt cx="2362320" cy="1371600"/>
          </a:xfrm>
        </p:grpSpPr>
        <p:sp>
          <p:nvSpPr>
            <p:cNvPr id="90" name=""/>
            <p:cNvSpPr/>
            <p:nvPr/>
          </p:nvSpPr>
          <p:spPr>
            <a:xfrm>
              <a:off x="457200" y="24382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480" y="2819520"/>
              <a:ext cx="198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38080" y="4038480"/>
            <a:ext cx="2590920" cy="1404360"/>
            <a:chOff x="838080" y="4038480"/>
            <a:chExt cx="2590920" cy="1404360"/>
          </a:xfrm>
        </p:grpSpPr>
        <p:sp>
          <p:nvSpPr>
            <p:cNvPr id="93" name=""/>
            <p:cNvSpPr/>
            <p:nvPr/>
          </p:nvSpPr>
          <p:spPr>
            <a:xfrm>
              <a:off x="838080" y="51055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14400" y="4038480"/>
              <a:ext cx="16765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50800" y="3124080"/>
            <a:ext cx="6240600" cy="147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7240" y="1447920"/>
            <a:ext cx="59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storing the next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4114800"/>
            <a:ext cx="2362320" cy="1495080"/>
            <a:chOff x="380880" y="4114800"/>
            <a:chExt cx="2362320" cy="1495080"/>
          </a:xfrm>
        </p:grpSpPr>
        <p:sp>
          <p:nvSpPr>
            <p:cNvPr id="99" name=""/>
            <p:cNvSpPr/>
            <p:nvPr/>
          </p:nvSpPr>
          <p:spPr>
            <a:xfrm>
              <a:off x="380880" y="502920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storing the next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990720" y="411480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50800" y="2876400"/>
            <a:ext cx="6240600" cy="19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5440" y="1447920"/>
            <a:ext cx="57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whether any grades wer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2057400"/>
            <a:ext cx="1981080" cy="1600200"/>
            <a:chOff x="457200" y="2057400"/>
            <a:chExt cx="1981080" cy="1600200"/>
          </a:xfrm>
        </p:grpSpPr>
        <p:sp>
          <p:nvSpPr>
            <p:cNvPr id="105" name=""/>
            <p:cNvSpPr/>
            <p:nvPr/>
          </p:nvSpPr>
          <p:spPr>
            <a:xfrm>
              <a:off x="457200" y="2057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ing whether grades were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26668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4114800"/>
            <a:ext cx="2057400" cy="1495080"/>
            <a:chOff x="533520" y="4114800"/>
            <a:chExt cx="2057400" cy="1495080"/>
          </a:xfrm>
        </p:grpSpPr>
        <p:sp>
          <p:nvSpPr>
            <p:cNvPr id="108" name=""/>
            <p:cNvSpPr/>
            <p:nvPr/>
          </p:nvSpPr>
          <p:spPr>
            <a:xfrm>
              <a:off x="533520" y="50292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cating that no grades were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520" y="4114800"/>
              <a:ext cx="2057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conversion (pro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are automatically converted to “larger” data types (types at top of the list in Fig. 7.12)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los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conversion (cas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ary cast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_cast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compiler warnings when converting to a “smaller”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ing to a “smaller” data type may cause a los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50800" y="2871720"/>
            <a:ext cx="6240600" cy="198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0040" y="1447920"/>
            <a:ext cx="42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4038480"/>
            <a:ext cx="2971800" cy="1814760"/>
            <a:chOff x="4724280" y="4038480"/>
            <a:chExt cx="2971800" cy="181476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to produce a floating-point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24280" y="4038480"/>
              <a:ext cx="990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entinel-controlled repetition to obtain an indefinite number of user inpu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values from one primitive C++ type to an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and prevent fatal logic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120" y="1447920"/>
            <a:ext cx="55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and display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3885840"/>
            <a:ext cx="2819160" cy="1480680"/>
            <a:chOff x="533520" y="3885840"/>
            <a:chExt cx="2819160" cy="1480680"/>
          </a:xfrm>
        </p:grpSpPr>
        <p:sp>
          <p:nvSpPr>
            <p:cNvPr id="125" name=""/>
            <p:cNvSpPr/>
            <p:nvPr/>
          </p:nvSpPr>
          <p:spPr>
            <a:xfrm>
              <a:off x="533520" y="50292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he 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3520" y="3885840"/>
              <a:ext cx="2057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6880" y="2709720"/>
            <a:ext cx="5610240" cy="2305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1120" y="1447920"/>
            <a:ext cx="50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934320" y="9907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Average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7400" y="1676520"/>
            <a:ext cx="4800600" cy="1066680"/>
            <a:chOff x="2057400" y="1676520"/>
            <a:chExt cx="4800600" cy="1066680"/>
          </a:xfrm>
        </p:grpSpPr>
        <p:sp>
          <p:nvSpPr>
            <p:cNvPr id="134" name=""/>
            <p:cNvSpPr/>
            <p:nvPr/>
          </p:nvSpPr>
          <p:spPr>
            <a:xfrm>
              <a:off x="5257800" y="1676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7400" y="1752480"/>
              <a:ext cx="3200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28440" y="4190760"/>
            <a:ext cx="6248880" cy="413640"/>
            <a:chOff x="1828440" y="4190760"/>
            <a:chExt cx="6248880" cy="413640"/>
          </a:xfrm>
        </p:grpSpPr>
        <p:sp>
          <p:nvSpPr>
            <p:cNvPr id="137" name=""/>
            <p:cNvSpPr/>
            <p:nvPr/>
          </p:nvSpPr>
          <p:spPr>
            <a:xfrm>
              <a:off x="5257800" y="426708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stor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828440" y="4190760"/>
              <a:ext cx="3429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37920" y="4724280"/>
            <a:ext cx="5943960" cy="733320"/>
            <a:chOff x="2437920" y="4724280"/>
            <a:chExt cx="5943960" cy="733320"/>
          </a:xfrm>
        </p:grpSpPr>
        <p:sp>
          <p:nvSpPr>
            <p:cNvPr id="140" name=""/>
            <p:cNvSpPr/>
            <p:nvPr/>
          </p:nvSpPr>
          <p:spPr>
            <a:xfrm>
              <a:off x="5486400" y="4876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the sentinel value is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437920" y="4724280"/>
              <a:ext cx="3048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057040" y="5409720"/>
            <a:ext cx="4038840" cy="809640"/>
            <a:chOff x="2057040" y="5409720"/>
            <a:chExt cx="4038840" cy="809640"/>
          </a:xfrm>
        </p:grpSpPr>
        <p:sp>
          <p:nvSpPr>
            <p:cNvPr id="143" name=""/>
            <p:cNvSpPr/>
            <p:nvPr/>
          </p:nvSpPr>
          <p:spPr>
            <a:xfrm>
              <a:off x="3581280" y="5638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grade to the total and increment the grade cou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057040" y="54097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934320" y="9907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Average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33720" y="380880"/>
            <a:ext cx="6705360" cy="580680"/>
            <a:chOff x="2133720" y="380880"/>
            <a:chExt cx="6705360" cy="580680"/>
          </a:xfrm>
        </p:grpSpPr>
        <p:sp>
          <p:nvSpPr>
            <p:cNvPr id="149" name=""/>
            <p:cNvSpPr/>
            <p:nvPr/>
          </p:nvSpPr>
          <p:spPr>
            <a:xfrm>
              <a:off x="6172200" y="38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store next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33720" y="457200"/>
              <a:ext cx="4038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0040" y="3352680"/>
            <a:ext cx="5638680" cy="1509840"/>
            <a:chOff x="3200040" y="3352680"/>
            <a:chExt cx="5638680" cy="1509840"/>
          </a:xfrm>
        </p:grpSpPr>
        <p:sp>
          <p:nvSpPr>
            <p:cNvPr id="152" name=""/>
            <p:cNvSpPr/>
            <p:nvPr/>
          </p:nvSpPr>
          <p:spPr>
            <a:xfrm>
              <a:off x="6434280" y="4038480"/>
              <a:ext cx="240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to produce a floating-point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200040" y="3352680"/>
              <a:ext cx="323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28640" y="4266720"/>
            <a:ext cx="3353040" cy="1724040"/>
            <a:chOff x="3428640" y="4266720"/>
            <a:chExt cx="3353040" cy="1724040"/>
          </a:xfrm>
        </p:grpSpPr>
        <p:sp>
          <p:nvSpPr>
            <p:cNvPr id="155" name=""/>
            <p:cNvSpPr/>
            <p:nvPr/>
          </p:nvSpPr>
          <p:spPr>
            <a:xfrm>
              <a:off x="4191120" y="54100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he class 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428640" y="4266720"/>
              <a:ext cx="762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560" y="1523880"/>
            <a:ext cx="6172560" cy="900360"/>
            <a:chOff x="2590560" y="1523880"/>
            <a:chExt cx="6172560" cy="900360"/>
          </a:xfrm>
        </p:grpSpPr>
        <p:sp>
          <p:nvSpPr>
            <p:cNvPr id="158" name=""/>
            <p:cNvSpPr/>
            <p:nvPr/>
          </p:nvSpPr>
          <p:spPr>
            <a:xfrm>
              <a:off x="5943600" y="16002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grades have been entered, display error message and avoid division by 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90560" y="1523880"/>
              <a:ext cx="3352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657600" y="1600200"/>
              <a:ext cx="2286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60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840" y="1447920"/>
            <a:ext cx="591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grad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5080" y="1447920"/>
            <a:ext cx="62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when no grades ar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538360"/>
            <a:ext cx="5610240" cy="264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2560" y="1447920"/>
            <a:ext cx="827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10 grades and the sentinel value have b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ntinel-Controlled Repeti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Controlled Repetition (also known as indefinite repet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not known before loop exec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(signal value, dummy value or flag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repetition shoul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the same as an acceptable inpu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4:35:21Z</dcterms:created>
  <dc:creator>Jeffrey Peng</dc:creator>
  <dc:description/>
  <dc:language>en-US</dc:language>
  <cp:lastModifiedBy>Pearson Education</cp:lastModifiedBy>
  <dcterms:modified xsi:type="dcterms:W3CDTF">2004-10-11T14:10:56Z</dcterms:modified>
  <cp:revision>37</cp:revision>
  <dc:subject/>
  <dc:title>Chapter 7 – Class Average Application: Introducing Sentinel-Controlled Repetition</dc:title>
</cp:coreProperties>
</file>